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D55A-3C74-4B5F-81CE-9A493775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AD6-FB03-47AB-B492-43C1CF54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490D-28CA-4929-9E9C-4830C81A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E087-C504-4238-AEBE-8ACBDC83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FF02-1229-496C-90A3-B075C20B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975E-B9A3-40A4-894D-1B7CEF52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3C31-B7DE-450B-B25C-AD11684B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0E2D-E2AF-41C9-AEB2-BB5BDB3E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56CF-2F94-474D-8339-DF0ECEC6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F4CE-594C-43FD-AD25-44CF11E9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F8FE-1A5D-4A55-8D07-D4E33225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2502-F9F9-4180-89BE-FCC51B85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0CA9-4A56-4EDD-9481-D99B71AC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E959-B83A-4C8E-B3A6-6D108884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D366-2D72-40BA-A356-575FFE4E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CE22-E9FC-4BF9-BECC-BC7DA0F6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3B1D-0D43-4501-B684-EBCEFF13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88B-51A7-4F41-8963-1CC5CBBB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F393-6D95-4F1D-8E76-2832C988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58F2-8043-4BE1-8BAD-6D75212D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F9A-9469-4F0C-9959-9F313BF7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2FD3-A925-4CEA-9B13-6DDDFD31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CDAC-6551-4742-9729-16EA0854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4CC-B068-42ED-83AE-2F8D80BB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79E3-24F0-4A4B-AA54-28BED9A9D3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DEFE-52E2-4304-B2FD-5C33A87871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n The Days of the Judg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3, Lesson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s 12:8 – 14: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93-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352680"/>
            <a:ext cx="7925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amson – the next lesson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tries to get his wife 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’s vengeance on the Philis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77240" cy="6091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8195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hra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1219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3124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mon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Jephthah’s Clash With Ephraimites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2:1-7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hraimites incensed: Jephthah did not call them to war against the Ammon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reaten his destruction, v.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vindicates himself, v. 2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charge against the Gileadites, v.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wo adversaries fought, v.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ty-two thousand Ephraimites killed at the passages of Jordan, v. 5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phthah died; judged Israel six years, v.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387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791320" y="762120"/>
            <a:ext cx="2057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phraim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5880" y="2286000"/>
            <a:ext cx="1600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ilea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90560" y="1295280"/>
            <a:ext cx="2971800" cy="259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428640" y="2743200"/>
            <a:ext cx="2438280" cy="76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Next Three Judges -</a:t>
            </a:r>
            <a:br>
              <a:rPr sz="40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2:8-15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’zan: judged for seven years, v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osterity and death, v. 9-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’lon: judged ten years and dies, v. 11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don: judged for eight years, v.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osterity and death, v. 14-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 Coming Judge –</a:t>
            </a:r>
            <a:br>
              <a:rPr sz="40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3:1-25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ites - evil again - delivered into the hands of the Philistines for forty years, v.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ngel appeared to the wife of Ma’no’ah; foretells the birth of a son, v.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ed her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treat both herself and her 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e would do, v. 2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informed her husband, v. 6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oah prayed for the angel to reappear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gel repeated his former instructions, v. 8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oah made an offering to the Lord; the angel ascended in the flame, v. 15-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oah is alarmed, but comforted by the judicious reflections of his wife, v. 21-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born; the spirit of the Lord began to move him, v. 24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 Coming Judge –</a:t>
            </a:r>
            <a:br>
              <a:rPr sz="40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3:1-25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amson’s - Weaknesses And Strength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(Judges 14:1-20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desires a Philistine for a wife, v. 1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ew a young lion at Tim’nath: later, he found bees and honey in the carcass, v. 5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’s father went to prepare for the marriage, v. 10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son made a f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’s parents gave him thirty compan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puts forth a riddle to them and they could not expound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amson’s - Weaknesses And Strength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(Judges 14:1-20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enticed his wife to get the interpretation of the riddle, v. 15-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succ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informed the compan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gave the answer to Sam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incensed with his wife and his companions, v. 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ew 30 Philistines for their clot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nt back home to Zor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wife was given to his “best man”, v.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5:49:30Z</dcterms:created>
  <dc:creator>Terry W. Benton</dc:creator>
  <dc:description/>
  <dc:language>en-US</dc:language>
  <cp:lastModifiedBy>Frank D Vines</cp:lastModifiedBy>
  <dcterms:modified xsi:type="dcterms:W3CDTF">2005-02-22T17:31:18Z</dcterms:modified>
  <cp:revision>10</cp:revision>
  <dc:subject/>
  <dc:title>In The Days of the Judges</dc:title>
</cp:coreProperties>
</file>